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28.wmf" ContentType="image/x-wmf"/>
  <Override PartName="/ppt/media/image4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40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17D-53F3-4C1A-9945-71C322E3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B37-0549-481B-8262-E9E44691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7858A-976F-466D-B740-9358E1E0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C6F35-C609-4A51-AD75-DB5FA481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32550-0952-40F8-879E-4036A9D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04F51-9B2E-49DD-BDA6-14D7870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B112-C474-400F-921F-9BB845B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4AD5-A15E-43FE-8565-5BC9B67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DE937-5B1E-4E34-A602-DB1CE15A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09F4F-3FE0-49A1-ACDF-D56A4EAC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B609D-741D-41E2-96AB-04FD8F54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066CF-BCC1-42D9-974C-77D74F8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9D2-5DFD-449F-BE21-BB738E76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7A07E-87F9-4573-8C16-9FAFA5F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F1C5-1E7F-4A06-BD18-99E34F8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AFE4-392C-436E-B914-402EB11F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0FE0-02BE-4657-B26E-CBEFCA5F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D500C-72AA-4A10-B6DB-111BEE8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308FD-1546-4B3A-A337-A48B1D6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42386-84B4-465F-8550-73CDFF72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4D146-8351-4294-9875-AC0FE99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162D-5ECF-468B-8587-25C9832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D08D2-71C8-469E-BBA0-3DFC028F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387-4F9D-4BB2-B76C-6677551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EABD-411D-44F6-838D-0352BCE1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B8420-E81A-45F6-B1CD-CEC6D623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B5547-E7E0-4970-80C8-62C44FCA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FC47B-5E15-451E-B020-896593B9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36D88-6C25-4FD5-B094-2CBC9FCF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E43CB-F47B-4F34-AFA6-7B0EA34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F6896-3765-4E7B-9B1B-1436B73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6B060-A09E-453C-B2E7-B0168AA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3B8C-06D2-4D60-B4B3-F64497A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CC54C-90C5-4C50-B3F9-15FAFAC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5290-8F5D-418B-B2A5-8FD9CC02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1619-1C0C-491D-8620-20A12E4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26B3A-F7B6-428E-BCBD-29B6FEE4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36D3D-1C22-43F2-9F87-07769EB8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940A0-AF93-4986-B949-D3B5BCF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484A-0522-4BB9-BD12-888F4B0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22CD-88A4-4DA9-B25E-EAA348BB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A6C08-6355-4CB0-A819-97B4DB2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DB958-13E6-4594-98D7-AA22E8E9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88D6A-AA17-4983-819E-EBE2712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932EA-ACDC-43EE-94CD-3F4CECC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106-BF85-40F4-BFA8-9FDD4EE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68819-FAF0-4F4E-A380-68A6E31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31B13-03DF-485E-BC7D-A8780C7B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14E86-8E4E-425E-9407-A0DC8FA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65129-9332-41B3-83F8-A9854895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750AC-A1F4-4172-93CE-41E722D9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190B3-3856-42AE-9FD1-9626CD52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010BF-92E0-4543-A14B-D62AA5D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FD578-7754-49EE-ACF0-8E057CD5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F79E0-BCA7-4784-8FFE-0E50D9D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6178A-2126-4081-9023-4B2B9AA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09CA-767E-4E21-B88F-3EAC664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6C973-E44E-48F3-9AE6-6013C239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46080-1D7C-454B-A2A8-0909576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F00AF-4DF6-495C-BA1E-860C5B5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F1054-FF36-47ED-81E0-601AA8A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1B240-6EF6-492F-A718-C6AB2132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F46DC-51C0-4C93-BBE9-F2841FB9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D9A6C-E566-4B44-AEC5-E46311D2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21C-F506-47AA-BC62-279FA90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E728-691C-41E8-9C68-D4D0693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67BB-C6FB-4CA9-A6EA-BF1283C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AF58-66C1-411C-AA01-08EE016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B36-1253-4E22-A87E-9B2C483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059-0712-45FE-9494-4BFF32D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2C3F-900B-4244-BF34-58155C9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939-FFF4-4FCB-A5D1-9EED099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B3BD-F5DA-4776-9073-3184EFB0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94F4-ECD4-4841-9040-EB2D0C64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036C-90A5-452E-B995-C975AC87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6AC5-86D5-48F3-80E9-8FAD7D1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CA12-B97B-4F2F-AEEC-CC4DED35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4166-F198-4081-97D5-10BAA25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1901-EBDC-49DE-A8D5-BC41E41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A25-2B2E-48B9-89E6-D4BA8FE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E3A3-B324-4831-B6BE-E747454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4FBE-0B12-40F8-B80B-C5627C7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E69F-9521-43C8-B216-73C8D55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8C87-067C-4089-8CE3-45E7A90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22D8-7E41-44B2-BE23-0CC316D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0C1E-D684-4DBC-959C-2752EF1D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AAEC-D174-4B6D-AA97-47DE978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00FF-97C2-4EFD-B309-B38F80A9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383C-5458-4DB1-8A84-E3F652A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BFEB-AB59-4A2F-90CD-434834E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BA7-A1AA-4691-ADE7-99196B4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6DC1-F82F-4063-A794-2D90C03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822B-97A8-48BC-A311-996F9DE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337E-1A8B-4ACF-9AD3-601D17A3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0DA2-F927-4C31-9FAF-DD770B6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F75E-17AB-4E25-AD91-2BC49D4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F86A-2723-4418-B3A9-6F82D4A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8F1D-41FF-4FA6-8FAA-7DB2BD4C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9141-91D6-4AF6-8BF8-803A7EA8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7CD1-5C62-4FB3-8631-F95011E3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BA7F-75F6-4FB9-99E1-D1CC3DE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773-179F-4751-9E38-C0E366C7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146E-6786-4AFA-9C56-E48847C6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93A8-B026-4D44-BEA9-2D7F2FC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7A41-C5C0-400E-87F1-58B282E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A6D4-0E26-449C-986C-665707E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22FC-F2B7-4D17-A2D7-B3860CE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75D57-31E6-4B2D-B17A-ADE72BC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EB16-440C-45E9-9AD9-B76553E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13D3-3578-4686-AE4F-41B6CFA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48AB-4BAC-486F-BF64-1B9576C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C421-2D5C-4EA9-9AAC-55B8D45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6C1-0C01-410D-88B8-B3411461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AF40-879C-463C-A112-1E63934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F1D1-06A9-4EF1-AAEB-F164769B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1282-0A51-4365-BA1D-B80A671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7F28-14A7-495C-98B9-AF6397D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5347-6A5C-4C0A-BFE6-1C19CFF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88B7-94C3-4182-A277-A9235FC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ABCE-23DC-4E00-A3E3-08D8FA6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1CDB-B956-482F-8710-39F7A20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9E17-87FE-470B-8096-1663ABF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E361-F2FE-48AD-AF6A-811DC43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878-4A38-400B-B76F-BDA3AA3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B02C-16A6-4EB1-A3E7-AFB38F8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B7F0-B20B-4FFE-880C-A18B8768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F170-6A64-4868-8CBA-46DF1DB2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4781-3FC0-41ED-926F-834534BF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31A7-9F1A-4B7C-8566-4EE66FB9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400DD-FBD7-4D4C-82D8-59ABE13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043C-E003-444A-898C-8204C186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7ABC-CAD3-4F85-9459-CC5224A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D634-30F9-4983-97AA-E6EF9DB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8DD60-06EB-4C4B-BD8B-80E800C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50E-B697-44BB-A10F-0C35689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EE2F-0D88-40A6-AE03-D8AD217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1C175-B512-4873-B4A7-3D3774F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A0DF-15AA-4802-83EC-2102BCA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5839-BE51-4F06-8F9E-82298206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B362-ADDB-4868-B870-6924593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798B-2DA0-4655-AA93-63ADCCD3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35BC3-38F8-4A75-9F32-9BE9263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FA753-CD14-40C2-BE48-BAC9915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EE13E-157B-4162-97A3-05B08E4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4DFE-5D8F-4ED7-A7DC-B24EC5C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BED-526A-414C-8A74-2681457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ADFA-4A86-44F3-BB58-F075180F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8727C-B38C-4B8F-A829-4284175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99E3-92BE-4B63-A736-42285DE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5F17-895C-4E36-93F7-50D3C3D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CA96-77B9-4105-9917-18304D4D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B49F-683A-4E91-93EA-A85EB53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8C788-DCCB-4272-AD67-DC9F046E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CFD0-B6FA-45B7-B0C8-411FDC99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E4447-BDFB-40FB-81D4-9642D37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74476-8EBC-4A56-9961-6498CF1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FAD97-94EF-4299-812E-C7D5294265B1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4839-1725-4CAE-9B33-CD61245D9B31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5145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2BA2D-2D10-4F8A-ACA4-C4D10650D0AF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AAF2-FF3B-4C44-B181-78A9417660EF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01" name="矩形 7"/>
          <p:cNvSpPr/>
          <p:nvPr/>
        </p:nvSpPr>
        <p:spPr>
          <a:xfrm>
            <a:off x="0" y="0"/>
            <a:ext cx="9144000" cy="5145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4100040" y="368280"/>
            <a:ext cx="823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微软雅黑"/>
              </a:rPr>
              <a:t>点击添加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3274920" y="711360"/>
            <a:ext cx="256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您的内容打在这里，或通过复制文本后在此选择粘贴，并选择只保留文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AB06A-6883-4671-8F32-D2F83FE17420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36774-CF2D-4D5F-96E3-9BD0877E96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74FB1-646B-4A7A-B59E-973AA2335FB3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3B346-88BB-4705-8DF8-AAA5D1C1E15C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7"/>
          <p:cNvSpPr/>
          <p:nvPr/>
        </p:nvSpPr>
        <p:spPr>
          <a:xfrm>
            <a:off x="977040" y="196920"/>
            <a:ext cx="1432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二 债券投资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DB356-725F-4A67-B688-ABBB610BC58E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7"/>
          <p:cNvSpPr/>
          <p:nvPr/>
        </p:nvSpPr>
        <p:spPr>
          <a:xfrm>
            <a:off x="924840" y="196920"/>
            <a:ext cx="1288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三 股票投资决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3604-38C8-4D23-9C4C-D02FA7EB7E49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7"/>
          <p:cNvSpPr/>
          <p:nvPr/>
        </p:nvSpPr>
        <p:spPr>
          <a:xfrm>
            <a:off x="795240" y="196920"/>
            <a:ext cx="869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明年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070B3-ADF0-44EE-9B0C-9E942F480F9A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04730-D377-4978-B9CC-CDD231E6C2CC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98343-5B87-4063-AF7E-DFDD212CA932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ADACFBCF.mp3" descr=""/>
          <p:cNvPicPr/>
          <p:nvPr/>
        </p:nvPicPr>
        <p:blipFill>
          <a:blip r:embed="rId1"/>
          <a:stretch/>
        </p:blipFill>
        <p:spPr>
          <a:xfrm>
            <a:off x="-1155600" y="1676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6"/>
          <p:cNvSpPr/>
          <p:nvPr/>
        </p:nvSpPr>
        <p:spPr>
          <a:xfrm>
            <a:off x="3095640" y="1698480"/>
            <a:ext cx="604836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等线"/>
              </a:rPr>
              <a:t>项目六 证券投资决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12" descr=""/>
          <p:cNvPicPr/>
          <p:nvPr/>
        </p:nvPicPr>
        <p:blipFill>
          <a:blip r:embed="rId2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任务一 债券投资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" descr="1C(E~HB8G$Z(8LZ@XOYK%4E"/>
          <p:cNvPicPr/>
          <p:nvPr/>
        </p:nvPicPr>
        <p:blipFill>
          <a:blip r:embed="rId2"/>
          <a:stretch/>
        </p:blipFill>
        <p:spPr>
          <a:xfrm>
            <a:off x="219240" y="31680"/>
            <a:ext cx="4035240" cy="5558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" descr="IX_Q`DGYW~CJYQ}K`B%}8Q0"/>
          <p:cNvPicPr/>
          <p:nvPr/>
        </p:nvPicPr>
        <p:blipFill>
          <a:blip r:embed="rId3"/>
          <a:stretch/>
        </p:blipFill>
        <p:spPr>
          <a:xfrm>
            <a:off x="546120" y="1276200"/>
            <a:ext cx="829476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465120" y="981000"/>
            <a:ext cx="2689200" cy="411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债券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9"/>
          <p:cNvSpPr/>
          <p:nvPr/>
        </p:nvSpPr>
        <p:spPr>
          <a:xfrm>
            <a:off x="339840" y="539640"/>
            <a:ext cx="33876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5713560" y="809640"/>
            <a:ext cx="3271680" cy="4762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债券的基本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254160" y="1419120"/>
            <a:ext cx="5811840" cy="304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是某一社会经济主体为筹措资金而向债券投资者出具的、承诺按一定利率定期支付利息，并到期偿还本金的债权债务凭证。债券的发行人是债务人，投资于债券的人是债权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公司债券是由企业或公司发行的有价证券，是企业或公司为筹措资金而公开负担的一种债务契约，表明公司借款后，有义务偿还其所借金额的一种期票。发行债券是现代企业主要筹资方式之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6321600" y="1525680"/>
            <a:ext cx="2385720" cy="246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面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期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票面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价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3"/>
          <p:cNvSpPr/>
          <p:nvPr/>
        </p:nvSpPr>
        <p:spPr>
          <a:xfrm>
            <a:off x="465120" y="981000"/>
            <a:ext cx="2689200" cy="411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债券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339840" y="539640"/>
            <a:ext cx="33876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713560" y="809640"/>
            <a:ext cx="3271680" cy="4762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债券的基本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1419120"/>
            <a:ext cx="5811840" cy="304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是某一社会经济主体为筹措资金而向债券投资者出具的、承诺按一定利率定期支付利息，并到期偿还本金的债权债务凭证。债券的发行人是债务人，投资于债券的人是债权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公司债券是由企业或公司发行的有价证券，是企业或公司为筹措资金而公开负担的一种债务契约，表明公司借款后，有义务偿还其所借金额的一种期票。发行债券是现代企业主要筹资方式之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21600" y="1525680"/>
            <a:ext cx="2385720" cy="246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面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期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票面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价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465120" y="981000"/>
            <a:ext cx="6676920" cy="438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认识债券投资的特点，明确投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9"/>
          <p:cNvSpPr/>
          <p:nvPr/>
        </p:nvSpPr>
        <p:spPr>
          <a:xfrm>
            <a:off x="311040" y="498600"/>
            <a:ext cx="29988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债券投资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735120" y="1413000"/>
            <a:ext cx="3149640" cy="15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投资优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①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本金安全性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②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投资收益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③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市场流动性较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4346640" y="1539720"/>
            <a:ext cx="3149640" cy="12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投资缺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①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购买力风险较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无经营管理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465120" y="3270240"/>
            <a:ext cx="5979960" cy="438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合理测算决策的评价指标并进行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65120" y="3708360"/>
            <a:ext cx="8048520" cy="77940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科学调查与评价发行单位的信用情况，计算并充分考虑各种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5"/>
          <p:cNvSpPr/>
          <p:nvPr/>
        </p:nvSpPr>
        <p:spPr>
          <a:xfrm>
            <a:off x="339840" y="539640"/>
            <a:ext cx="388764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422280" y="1182600"/>
            <a:ext cx="795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债券的价值又称债券的内在价值，是发行人按照合同规定从现在至债券到期日所获得的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现金流入量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的现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7"/>
          <p:cNvSpPr/>
          <p:nvPr/>
        </p:nvSpPr>
        <p:spPr>
          <a:xfrm>
            <a:off x="4413240" y="47772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债券的估价（债券价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8"/>
          <p:cNvSpPr/>
          <p:nvPr/>
        </p:nvSpPr>
        <p:spPr>
          <a:xfrm>
            <a:off x="2335680" y="202896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9b680f"/>
                </a:solidFill>
                <a:latin typeface="Arial"/>
                <a:ea typeface="宋体"/>
              </a:rPr>
              <a:t>债券估价的基本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5380200" y="2566800"/>
            <a:ext cx="3430440" cy="2104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M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面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i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票面利率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K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市场利率或投资者要求的必要收益率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N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期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V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Object 14" descr=""/>
          <p:cNvPicPr/>
          <p:nvPr/>
        </p:nvPicPr>
        <p:blipFill>
          <a:blip r:embed="rId2"/>
          <a:stretch/>
        </p:blipFill>
        <p:spPr>
          <a:xfrm>
            <a:off x="268200" y="2706840"/>
            <a:ext cx="4992840" cy="17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31" name="TextBox 15"/>
          <p:cNvSpPr/>
          <p:nvPr/>
        </p:nvSpPr>
        <p:spPr>
          <a:xfrm>
            <a:off x="339840" y="539640"/>
            <a:ext cx="388764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5"/>
          <p:cNvSpPr/>
          <p:nvPr/>
        </p:nvSpPr>
        <p:spPr>
          <a:xfrm>
            <a:off x="339840" y="539640"/>
            <a:ext cx="364968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7"/>
          <p:cNvSpPr/>
          <p:nvPr/>
        </p:nvSpPr>
        <p:spPr>
          <a:xfrm>
            <a:off x="4302000" y="5414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5"/>
          <p:cNvSpPr/>
          <p:nvPr/>
        </p:nvSpPr>
        <p:spPr>
          <a:xfrm>
            <a:off x="880920" y="1301760"/>
            <a:ext cx="156528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债券收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74840" y="2269080"/>
            <a:ext cx="83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债券的收益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是指以特定的价格购买债券并持有至到期日所能获得收益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2725560" y="291312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票面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本期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13"/>
          <p:cNvSpPr/>
          <p:nvPr/>
        </p:nvSpPr>
        <p:spPr>
          <a:xfrm>
            <a:off x="3066480" y="36860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持有期间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"/>
          <p:cNvSpPr/>
          <p:nvPr/>
        </p:nvSpPr>
        <p:spPr>
          <a:xfrm>
            <a:off x="2517840" y="1131840"/>
            <a:ext cx="32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一是债券的利息收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二是资本利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99"/>
          <p:cNvSpPr/>
          <p:nvPr/>
        </p:nvSpPr>
        <p:spPr>
          <a:xfrm>
            <a:off x="247680" y="77796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欲购入每张面值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票面利率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年付息一次，到期一次还本的甲公司发行的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期债券，债券购入时市场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2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 债券市场价格每张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。确定是否可以进行此项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"/>
          <p:cNvSpPr/>
          <p:nvPr/>
        </p:nvSpPr>
        <p:spPr>
          <a:xfrm>
            <a:off x="530280" y="2344680"/>
            <a:ext cx="8085240" cy="155700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100×10%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＋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0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10×3.605+100×0.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92.7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"/>
          <p:cNvSpPr/>
          <p:nvPr/>
        </p:nvSpPr>
        <p:spPr>
          <a:xfrm>
            <a:off x="677880" y="392112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其价值大于价格，可以投资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99"/>
          <p:cNvSpPr/>
          <p:nvPr/>
        </p:nvSpPr>
        <p:spPr>
          <a:xfrm>
            <a:off x="203040" y="89208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拟购买乙公司发行的利随本清的企业债券，该债券每张面值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票面利率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单利计息，假设当前市场利率为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计算乙公司债券的发行价格为多少时才适宜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"/>
          <p:cNvSpPr/>
          <p:nvPr/>
        </p:nvSpPr>
        <p:spPr>
          <a:xfrm>
            <a:off x="677880" y="3602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只有债券的价格不高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2.09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才适宜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对象 24" descr=""/>
          <p:cNvPicPr/>
          <p:nvPr/>
        </p:nvPicPr>
        <p:blipFill>
          <a:blip r:embed="rId2"/>
          <a:stretch/>
        </p:blipFill>
        <p:spPr>
          <a:xfrm>
            <a:off x="2070000" y="2322360"/>
            <a:ext cx="4327560" cy="118908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99"/>
          <p:cNvSpPr/>
          <p:nvPr/>
        </p:nvSpPr>
        <p:spPr>
          <a:xfrm>
            <a:off x="247680" y="868320"/>
            <a:ext cx="86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欲购买某公司发行的债券，每张面值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 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 以折现方式发行， 期内不计利息， 到期按面值偿还。假设市场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6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计算其价格为多少时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才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"/>
          <p:cNvSpPr/>
          <p:nvPr/>
        </p:nvSpPr>
        <p:spPr>
          <a:xfrm>
            <a:off x="677880" y="3602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只有当该债券的价格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47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公司才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"/>
          <p:cNvSpPr/>
          <p:nvPr/>
        </p:nvSpPr>
        <p:spPr>
          <a:xfrm>
            <a:off x="1380960" y="2638440"/>
            <a:ext cx="43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=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1 000×0.747=747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99"/>
          <p:cNvSpPr/>
          <p:nvPr/>
        </p:nvSpPr>
        <p:spPr>
          <a:xfrm>
            <a:off x="306360" y="8730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早在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现代装备制造股份有限公司（以下简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）即成立了证券投资部门，隶属于财务部，负责公司的证券投资业务。一方面是为了在短期内提高资金的使用效率，另一方面，从长远来看，公司希望从证券市场上获得更多的投资机会，为未来企业扩大规模和扩大产业范围做出长期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由于公司现有业务高速增长，积累了一定的资金，公司提出了多元化投资的目标。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初，证券投资部门拟定了有价证券投资计划，公司设定的基准收益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当前市场利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8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5" name="文本框 99"/>
          <p:cNvSpPr/>
          <p:nvPr/>
        </p:nvSpPr>
        <p:spPr>
          <a:xfrm>
            <a:off x="203040" y="84600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6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价格购买面值为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债券，年票面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半年计算并付息一次，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当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收到半年利息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9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价格卖出。计算该债券持有期间的收益率和持有期间年均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2"/>
          <p:cNvSpPr/>
          <p:nvPr/>
        </p:nvSpPr>
        <p:spPr>
          <a:xfrm>
            <a:off x="546120" y="2670120"/>
            <a:ext cx="711504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本例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持有时间不超过一年的，直接按债券持有期间的收益除以买入价计算持有期间的收益率，不考虑复利计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对象 29" descr=""/>
          <p:cNvPicPr/>
          <p:nvPr/>
        </p:nvPicPr>
        <p:blipFill>
          <a:blip r:embed="rId2"/>
          <a:stretch/>
        </p:blipFill>
        <p:spPr>
          <a:xfrm>
            <a:off x="774720" y="3444840"/>
            <a:ext cx="7134120" cy="689040"/>
          </a:xfrm>
          <a:prstGeom prst="rect">
            <a:avLst/>
          </a:prstGeom>
          <a:ln w="0">
            <a:noFill/>
          </a:ln>
        </p:spPr>
      </p:pic>
      <p:pic>
        <p:nvPicPr>
          <p:cNvPr id="659" name="对象 30" descr=""/>
          <p:cNvPicPr/>
          <p:nvPr/>
        </p:nvPicPr>
        <p:blipFill>
          <a:blip r:embed="rId3"/>
          <a:stretch/>
        </p:blipFill>
        <p:spPr>
          <a:xfrm>
            <a:off x="774720" y="4133880"/>
            <a:ext cx="506412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61" name="文本框 99"/>
          <p:cNvSpPr/>
          <p:nvPr/>
        </p:nvSpPr>
        <p:spPr>
          <a:xfrm>
            <a:off x="203040" y="84600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7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24.28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购买一张面值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债券，票面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支付一次利息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6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到期。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购买的债券投资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"/>
          <p:cNvSpPr/>
          <p:nvPr/>
        </p:nvSpPr>
        <p:spPr>
          <a:xfrm>
            <a:off x="871560" y="2576520"/>
            <a:ext cx="773100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对于持有时间超过一年以上的，在投资决策中应按复利计算收益率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具体计算方法与债券还本付息方式有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946080" y="3422520"/>
            <a:ext cx="765648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持有期间超过一年的，每年付息一次，到期一次还本的债券收益率的计算公式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"/>
          <p:cNvSpPr/>
          <p:nvPr/>
        </p:nvSpPr>
        <p:spPr>
          <a:xfrm>
            <a:off x="1508040" y="4336920"/>
            <a:ext cx="5840640" cy="45972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=I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＋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99"/>
          <p:cNvSpPr/>
          <p:nvPr/>
        </p:nvSpPr>
        <p:spPr>
          <a:xfrm>
            <a:off x="203040" y="777960"/>
            <a:ext cx="51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的计算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"/>
          <p:cNvSpPr/>
          <p:nvPr/>
        </p:nvSpPr>
        <p:spPr>
          <a:xfrm>
            <a:off x="358920" y="1238400"/>
            <a:ext cx="8339040" cy="82548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24.28=1 000×8%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1 000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"/>
          <p:cNvSpPr/>
          <p:nvPr/>
        </p:nvSpPr>
        <p:spPr>
          <a:xfrm>
            <a:off x="203040" y="1698480"/>
            <a:ext cx="55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采用逐步测试法求得。先按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折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3"/>
          <p:cNvSpPr/>
          <p:nvPr/>
        </p:nvSpPr>
        <p:spPr>
          <a:xfrm>
            <a:off x="379440" y="2158920"/>
            <a:ext cx="8099280" cy="82548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8%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80×3.890 + 1 000×0.650= 961.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7"/>
          <p:cNvSpPr/>
          <p:nvPr/>
        </p:nvSpPr>
        <p:spPr>
          <a:xfrm>
            <a:off x="358920" y="3060720"/>
            <a:ext cx="78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61.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大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24.28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将收益率提高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折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8"/>
          <p:cNvSpPr/>
          <p:nvPr/>
        </p:nvSpPr>
        <p:spPr>
          <a:xfrm>
            <a:off x="522360" y="3521160"/>
            <a:ext cx="8099280" cy="119124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8%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80×3.791+1 000×0.621= 924.28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"/>
          <p:cNvSpPr/>
          <p:nvPr/>
        </p:nvSpPr>
        <p:spPr>
          <a:xfrm>
            <a:off x="479520" y="4349880"/>
            <a:ext cx="83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由于计算出的数值正好等于购买价格，因此公司债券的收益率为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76" name="文本框 99"/>
          <p:cNvSpPr/>
          <p:nvPr/>
        </p:nvSpPr>
        <p:spPr>
          <a:xfrm>
            <a:off x="246240" y="1060560"/>
            <a:ext cx="865656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投资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石化债券的价值和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评价该债券投资的可行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9"/>
          <p:cNvSpPr/>
          <p:nvPr/>
        </p:nvSpPr>
        <p:spPr>
          <a:xfrm>
            <a:off x="2965320" y="3008160"/>
            <a:ext cx="3822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任务二 股票投资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14"/>
          <p:cNvSpPr/>
          <p:nvPr/>
        </p:nvSpPr>
        <p:spPr>
          <a:xfrm>
            <a:off x="277920" y="21276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1" descr="RHS](_)15BYSX2C0ZAT]NOC"/>
          <p:cNvPicPr/>
          <p:nvPr/>
        </p:nvPicPr>
        <p:blipFill>
          <a:blip r:embed="rId2"/>
          <a:stretch/>
        </p:blipFill>
        <p:spPr>
          <a:xfrm>
            <a:off x="154080" y="165240"/>
            <a:ext cx="3552840" cy="4950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" descr="BL1EBA`H6AG{40H0@W[03DQ"/>
          <p:cNvPicPr/>
          <p:nvPr/>
        </p:nvPicPr>
        <p:blipFill>
          <a:blip r:embed="rId3"/>
          <a:stretch/>
        </p:blipFill>
        <p:spPr>
          <a:xfrm>
            <a:off x="730080" y="1309680"/>
            <a:ext cx="81946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85" name="Content Placeholder 2"/>
          <p:cNvSpPr/>
          <p:nvPr/>
        </p:nvSpPr>
        <p:spPr>
          <a:xfrm>
            <a:off x="341280" y="2075040"/>
            <a:ext cx="22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股票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351000" y="403200"/>
            <a:ext cx="222696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股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352440" y="81432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是股份公司为筹集主权资金而依法发行的有价证券，是用以证明投资者的股东身份、股东权益及其义务，并据以获得股利的一种可以转让的凭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2951280" y="2075040"/>
            <a:ext cx="1539720" cy="459720"/>
          </a:xfrm>
          <a:prstGeom prst="rect">
            <a:avLst/>
          </a:prstGeom>
          <a:solidFill>
            <a:srgbClr val="fcf2e0"/>
          </a:solidFill>
          <a:ln w="12600">
            <a:solidFill>
              <a:srgbClr val="f0bd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等线"/>
              </a:rPr>
              <a:t>发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4687920" y="2062080"/>
            <a:ext cx="1538280" cy="459720"/>
          </a:xfrm>
          <a:prstGeom prst="rect">
            <a:avLst/>
          </a:prstGeom>
          <a:solidFill>
            <a:srgbClr val="fcf2e0"/>
          </a:solidFill>
          <a:ln w="12600">
            <a:solidFill>
              <a:srgbClr val="f0bd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等线"/>
              </a:rPr>
              <a:t>交易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Content Placeholder 2"/>
          <p:cNvSpPr/>
          <p:nvPr/>
        </p:nvSpPr>
        <p:spPr>
          <a:xfrm>
            <a:off x="341280" y="2606760"/>
            <a:ext cx="166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股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ontent Placeholder 2"/>
          <p:cNvSpPr/>
          <p:nvPr/>
        </p:nvSpPr>
        <p:spPr>
          <a:xfrm>
            <a:off x="387360" y="3127320"/>
            <a:ext cx="257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股票的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Content Placeholder 2"/>
          <p:cNvSpPr/>
          <p:nvPr/>
        </p:nvSpPr>
        <p:spPr>
          <a:xfrm>
            <a:off x="673200" y="3692520"/>
            <a:ext cx="800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投资于股票预期获得未来现金流量的现值，即为股票的价值或内在价值、理论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94" name="Content Placeholder 2"/>
          <p:cNvSpPr/>
          <p:nvPr/>
        </p:nvSpPr>
        <p:spPr>
          <a:xfrm>
            <a:off x="773280" y="1001880"/>
            <a:ext cx="28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股票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"/>
          <p:cNvSpPr/>
          <p:nvPr/>
        </p:nvSpPr>
        <p:spPr>
          <a:xfrm>
            <a:off x="339840" y="539640"/>
            <a:ext cx="369252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股票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ontent Placeholder 2"/>
          <p:cNvSpPr/>
          <p:nvPr/>
        </p:nvSpPr>
        <p:spPr>
          <a:xfrm>
            <a:off x="773280" y="2075040"/>
            <a:ext cx="348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股票投资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Content Placeholder 2"/>
          <p:cNvSpPr/>
          <p:nvPr/>
        </p:nvSpPr>
        <p:spPr>
          <a:xfrm>
            <a:off x="773280" y="3465360"/>
            <a:ext cx="222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市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对象 31" descr=""/>
          <p:cNvPicPr/>
          <p:nvPr/>
        </p:nvPicPr>
        <p:blipFill>
          <a:blip r:embed="rId2"/>
          <a:stretch/>
        </p:blipFill>
        <p:spPr>
          <a:xfrm>
            <a:off x="1647720" y="1371600"/>
            <a:ext cx="6802560" cy="704880"/>
          </a:xfrm>
          <a:prstGeom prst="rect">
            <a:avLst/>
          </a:prstGeom>
          <a:ln w="0">
            <a:noFill/>
          </a:ln>
        </p:spPr>
      </p:pic>
      <p:sp>
        <p:nvSpPr>
          <p:cNvPr id="699" name="Content Placeholder 2"/>
          <p:cNvSpPr/>
          <p:nvPr/>
        </p:nvSpPr>
        <p:spPr>
          <a:xfrm>
            <a:off x="1647720" y="2562120"/>
            <a:ext cx="680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股票投资未来现金流入量总现值等于目前购买价格时的贴现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对象 32" descr=""/>
          <p:cNvPicPr/>
          <p:nvPr/>
        </p:nvPicPr>
        <p:blipFill>
          <a:blip r:embed="rId3"/>
          <a:stretch/>
        </p:blipFill>
        <p:spPr>
          <a:xfrm>
            <a:off x="2876400" y="3835440"/>
            <a:ext cx="3316320" cy="8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02" name="TextBox 15"/>
          <p:cNvSpPr/>
          <p:nvPr/>
        </p:nvSpPr>
        <p:spPr>
          <a:xfrm>
            <a:off x="339840" y="539640"/>
            <a:ext cx="300348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股票投资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6"/>
          <p:cNvSpPr/>
          <p:nvPr/>
        </p:nvSpPr>
        <p:spPr>
          <a:xfrm>
            <a:off x="353880" y="1076400"/>
            <a:ext cx="51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认识股票投资优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6"/>
          <p:cNvSpPr/>
          <p:nvPr/>
        </p:nvSpPr>
        <p:spPr>
          <a:xfrm>
            <a:off x="4529160" y="1542960"/>
            <a:ext cx="38862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Calibri"/>
                <a:ea typeface="等线"/>
              </a:rPr>
              <a:t>股票投资的缺点</a:t>
            </a:r>
            <a:r>
              <a:rPr b="0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求偿权居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价格不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收入不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6"/>
          <p:cNvSpPr/>
          <p:nvPr/>
        </p:nvSpPr>
        <p:spPr>
          <a:xfrm>
            <a:off x="423720" y="3227400"/>
            <a:ext cx="64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合理测算好决策的评价指标并进行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6"/>
          <p:cNvSpPr/>
          <p:nvPr/>
        </p:nvSpPr>
        <p:spPr>
          <a:xfrm>
            <a:off x="393840" y="1582560"/>
            <a:ext cx="38862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Calibri"/>
                <a:ea typeface="等线"/>
              </a:rPr>
              <a:t>相对于债券，股票投资的优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投资收益较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购买力风险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拥有经营控制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436680" y="3825720"/>
            <a:ext cx="78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一般来说，在市场收益和风险较为均衡的情况下，价值或收益率越高，越具有投资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图片 1" descr="$_9EVAHOA96]R]H74Y5P%[E"/>
          <p:cNvPicPr/>
          <p:nvPr/>
        </p:nvPicPr>
        <p:blipFill>
          <a:blip r:embed="rId1"/>
          <a:stretch/>
        </p:blipFill>
        <p:spPr>
          <a:xfrm>
            <a:off x="15840" y="23760"/>
            <a:ext cx="8847000" cy="376200"/>
          </a:xfrm>
          <a:prstGeom prst="rect">
            <a:avLst/>
          </a:prstGeom>
          <a:ln w="0">
            <a:noFill/>
          </a:ln>
        </p:spPr>
      </p:pic>
      <p:sp>
        <p:nvSpPr>
          <p:cNvPr id="709" name="文本框 99"/>
          <p:cNvSpPr/>
          <p:nvPr/>
        </p:nvSpPr>
        <p:spPr>
          <a:xfrm>
            <a:off x="774720" y="317520"/>
            <a:ext cx="282888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"/>
          <p:cNvSpPr/>
          <p:nvPr/>
        </p:nvSpPr>
        <p:spPr>
          <a:xfrm>
            <a:off x="3421080" y="317520"/>
            <a:ext cx="150804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主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457200" y="1301760"/>
            <a:ext cx="60120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零增长、长期持有的股票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"/>
          <p:cNvSpPr/>
          <p:nvPr/>
        </p:nvSpPr>
        <p:spPr>
          <a:xfrm>
            <a:off x="457200" y="1930320"/>
            <a:ext cx="620064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固定增长、长期持有的股票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Object 3" descr=""/>
          <p:cNvPicPr/>
          <p:nvPr/>
        </p:nvPicPr>
        <p:blipFill>
          <a:blip r:embed="rId2"/>
          <a:stretch/>
        </p:blipFill>
        <p:spPr>
          <a:xfrm>
            <a:off x="6826320" y="1096920"/>
            <a:ext cx="1165320" cy="105732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5" descr=""/>
          <p:cNvPicPr/>
          <p:nvPr/>
        </p:nvPicPr>
        <p:blipFill>
          <a:blip r:embed="rId3"/>
          <a:stretch/>
        </p:blipFill>
        <p:spPr>
          <a:xfrm>
            <a:off x="457200" y="2455920"/>
            <a:ext cx="2181240" cy="86976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2"/>
          <p:cNvSpPr/>
          <p:nvPr/>
        </p:nvSpPr>
        <p:spPr>
          <a:xfrm>
            <a:off x="2755800" y="261000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当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为常数时，并且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＞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时，上式可简化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Object 7" descr=""/>
          <p:cNvPicPr/>
          <p:nvPr/>
        </p:nvPicPr>
        <p:blipFill>
          <a:blip r:embed="rId4"/>
          <a:stretch/>
        </p:blipFill>
        <p:spPr>
          <a:xfrm>
            <a:off x="3086280" y="3040200"/>
            <a:ext cx="3273120" cy="982440"/>
          </a:xfrm>
          <a:prstGeom prst="rect">
            <a:avLst/>
          </a:prstGeom>
          <a:ln w="0">
            <a:noFill/>
          </a:ln>
        </p:spPr>
      </p:pic>
      <p:sp>
        <p:nvSpPr>
          <p:cNvPr id="717" name="TextBox 3"/>
          <p:cNvSpPr/>
          <p:nvPr/>
        </p:nvSpPr>
        <p:spPr>
          <a:xfrm>
            <a:off x="560520" y="4203720"/>
            <a:ext cx="50403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非固定增长股票的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"/>
          <p:cNvSpPr/>
          <p:nvPr/>
        </p:nvSpPr>
        <p:spPr>
          <a:xfrm>
            <a:off x="457200" y="803160"/>
            <a:ext cx="180648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基本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99"/>
          <p:cNvSpPr/>
          <p:nvPr/>
        </p:nvSpPr>
        <p:spPr>
          <a:xfrm>
            <a:off x="306360" y="614520"/>
            <a:ext cx="853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划用部分资金购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石化于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7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日发行的五年期债券，债券面值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，票面利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每年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日付息一次，到期一次还本，债券发行价格为每份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希望在证券市场上通过持有相关公司股份进入新能源市场，以提高公司的市场竞争力。通过市场分析，认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的发展前景良好，准备购入该公司股票进行长期投资。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股票目前的市场价格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，今年已经支付的股利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0.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，预测未来股利稳定增长，年增长率在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所在新能源行业目前的平均市盈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证券投资的目的主要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如何进行证券的投资决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99"/>
          <p:cNvSpPr/>
          <p:nvPr/>
        </p:nvSpPr>
        <p:spPr>
          <a:xfrm>
            <a:off x="330120" y="777960"/>
            <a:ext cx="83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打算购入某种股票，准备持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预期的必要收益率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三年后股票市价预计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，预计该股票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分得的股利分别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.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对该股票进行估价，并根据股票的现实价格做出投资决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1"/>
          <p:cNvSpPr/>
          <p:nvPr/>
        </p:nvSpPr>
        <p:spPr>
          <a:xfrm>
            <a:off x="1130400" y="2346480"/>
            <a:ext cx="751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4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)+4.5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)+5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)+36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4×0.892 9+4.5×0.797 2+5×0.711 8+36×0.7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≈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6.34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"/>
          <p:cNvSpPr/>
          <p:nvPr/>
        </p:nvSpPr>
        <p:spPr>
          <a:xfrm>
            <a:off x="728640" y="380376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根据上述计算，当股票的市价等于或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.34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其收益率等于或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可以投资；当高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.34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不适宜购买该只股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9"/>
          <p:cNvSpPr/>
          <p:nvPr/>
        </p:nvSpPr>
        <p:spPr>
          <a:xfrm>
            <a:off x="774720" y="317520"/>
            <a:ext cx="282888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3421080" y="317520"/>
            <a:ext cx="150804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基本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99"/>
          <p:cNvSpPr/>
          <p:nvPr/>
        </p:nvSpPr>
        <p:spPr>
          <a:xfrm>
            <a:off x="374760" y="853920"/>
            <a:ext cx="83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投资某公司股票的必要收益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现拟购买某公司发行的股利固定增长股票，预计股利年增长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今年已经发放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／股。计算该股票价格为多少元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才可以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对象 35" descr=""/>
          <p:cNvPicPr/>
          <p:nvPr/>
        </p:nvPicPr>
        <p:blipFill>
          <a:blip r:embed="rId2"/>
          <a:stretch/>
        </p:blipFill>
        <p:spPr>
          <a:xfrm>
            <a:off x="2030400" y="2422440"/>
            <a:ext cx="3735360" cy="87948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2"/>
          <p:cNvSpPr/>
          <p:nvPr/>
        </p:nvSpPr>
        <p:spPr>
          <a:xfrm>
            <a:off x="739800" y="318780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当股票价格等于或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8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公司才可以购买此股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"/>
          <p:cNvSpPr/>
          <p:nvPr/>
        </p:nvSpPr>
        <p:spPr>
          <a:xfrm>
            <a:off x="2701800" y="317520"/>
            <a:ext cx="570096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固定增长、长期持有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MN{$RK}PC0_4RH`H%)3D{QF"/>
          <p:cNvPicPr/>
          <p:nvPr/>
        </p:nvPicPr>
        <p:blipFill>
          <a:blip r:embed="rId3"/>
          <a:stretch/>
        </p:blipFill>
        <p:spPr>
          <a:xfrm>
            <a:off x="601560" y="4017960"/>
            <a:ext cx="765360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99"/>
          <p:cNvSpPr/>
          <p:nvPr/>
        </p:nvSpPr>
        <p:spPr>
          <a:xfrm>
            <a:off x="374760" y="853920"/>
            <a:ext cx="83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准备购买东南电子的股票，要求达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收益率，该公司今年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，预计东南电子股利未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速度高速增长，而后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速度转入固定增长。计算该股票价格为多少元时公司才可以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1189080" y="4192560"/>
            <a:ext cx="31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本例计算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5"/>
          <p:cNvSpPr/>
          <p:nvPr/>
        </p:nvSpPr>
        <p:spPr>
          <a:xfrm>
            <a:off x="2701800" y="317520"/>
            <a:ext cx="472140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非固定增长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6"/>
          <p:cNvSpPr/>
          <p:nvPr/>
        </p:nvSpPr>
        <p:spPr>
          <a:xfrm>
            <a:off x="1189080" y="2986200"/>
            <a:ext cx="64785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高速增长阶段现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固定增长阶段现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固定不变阶段现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9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"/>
          <p:cNvSpPr/>
          <p:nvPr/>
        </p:nvSpPr>
        <p:spPr>
          <a:xfrm>
            <a:off x="739800" y="436392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=49.361 4×0.751 3+2.318 1 ≈ 39.40(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5"/>
          <p:cNvSpPr/>
          <p:nvPr/>
        </p:nvSpPr>
        <p:spPr>
          <a:xfrm>
            <a:off x="2701800" y="317520"/>
            <a:ext cx="472140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非固定增长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6"/>
          <p:cNvSpPr/>
          <p:nvPr/>
        </p:nvSpPr>
        <p:spPr>
          <a:xfrm>
            <a:off x="363600" y="853920"/>
            <a:ext cx="64785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一步：计算高速增长阶段现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7" descr=""/>
          <p:cNvPicPr/>
          <p:nvPr/>
        </p:nvPicPr>
        <p:blipFill>
          <a:blip r:embed="rId2"/>
          <a:stretch/>
        </p:blipFill>
        <p:spPr>
          <a:xfrm>
            <a:off x="465120" y="1314360"/>
            <a:ext cx="8002440" cy="1446480"/>
          </a:xfrm>
          <a:prstGeom prst="rect">
            <a:avLst/>
          </a:prstGeom>
          <a:ln w="0">
            <a:noFill/>
          </a:ln>
        </p:spPr>
      </p:pic>
      <p:sp>
        <p:nvSpPr>
          <p:cNvPr id="744" name="文本框 8"/>
          <p:cNvSpPr/>
          <p:nvPr/>
        </p:nvSpPr>
        <p:spPr>
          <a:xfrm>
            <a:off x="465120" y="2760840"/>
            <a:ext cx="770112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二步：计算固定增长阶段现值（至第三年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对象 36" descr=""/>
          <p:cNvPicPr/>
          <p:nvPr/>
        </p:nvPicPr>
        <p:blipFill>
          <a:blip r:embed="rId3"/>
          <a:stretch/>
        </p:blipFill>
        <p:spPr>
          <a:xfrm>
            <a:off x="1730520" y="3220920"/>
            <a:ext cx="3595680" cy="608040"/>
          </a:xfrm>
          <a:prstGeom prst="rect">
            <a:avLst/>
          </a:prstGeom>
          <a:ln w="0">
            <a:noFill/>
          </a:ln>
        </p:spPr>
      </p:pic>
      <p:sp>
        <p:nvSpPr>
          <p:cNvPr id="746" name="文本框 15"/>
          <p:cNvSpPr/>
          <p:nvPr/>
        </p:nvSpPr>
        <p:spPr>
          <a:xfrm>
            <a:off x="465120" y="3828960"/>
            <a:ext cx="446724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三步：计算内在价值合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"/>
          <p:cNvSpPr/>
          <p:nvPr/>
        </p:nvSpPr>
        <p:spPr>
          <a:xfrm>
            <a:off x="561960" y="1128600"/>
            <a:ext cx="31878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短期股票投资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7"/>
          <p:cNvSpPr/>
          <p:nvPr/>
        </p:nvSpPr>
        <p:spPr>
          <a:xfrm>
            <a:off x="550800" y="1871640"/>
            <a:ext cx="51087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零增长、长期持有的股票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Object 3" descr=""/>
          <p:cNvPicPr/>
          <p:nvPr/>
        </p:nvPicPr>
        <p:blipFill>
          <a:blip r:embed="rId2"/>
          <a:stretch/>
        </p:blipFill>
        <p:spPr>
          <a:xfrm>
            <a:off x="4132440" y="938160"/>
            <a:ext cx="2560320" cy="692280"/>
          </a:xfrm>
          <a:prstGeom prst="rect">
            <a:avLst/>
          </a:prstGeom>
          <a:ln w="0">
            <a:noFill/>
          </a:ln>
        </p:spPr>
      </p:pic>
      <p:pic>
        <p:nvPicPr>
          <p:cNvPr id="752" name="Object 7" descr=""/>
          <p:cNvPicPr/>
          <p:nvPr/>
        </p:nvPicPr>
        <p:blipFill>
          <a:blip r:embed="rId3"/>
          <a:stretch/>
        </p:blipFill>
        <p:spPr>
          <a:xfrm>
            <a:off x="6014880" y="1635120"/>
            <a:ext cx="1101960" cy="919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15"/>
          <p:cNvSpPr/>
          <p:nvPr/>
        </p:nvSpPr>
        <p:spPr>
          <a:xfrm>
            <a:off x="614520" y="2500200"/>
            <a:ext cx="52290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固定增长、长期持有的股票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Object 11" descr=""/>
          <p:cNvPicPr/>
          <p:nvPr/>
        </p:nvPicPr>
        <p:blipFill>
          <a:blip r:embed="rId4"/>
          <a:stretch/>
        </p:blipFill>
        <p:spPr>
          <a:xfrm>
            <a:off x="6272280" y="2611440"/>
            <a:ext cx="1407960" cy="770040"/>
          </a:xfrm>
          <a:prstGeom prst="rect">
            <a:avLst/>
          </a:prstGeom>
          <a:ln w="0">
            <a:noFill/>
          </a:ln>
        </p:spPr>
      </p:pic>
      <p:sp>
        <p:nvSpPr>
          <p:cNvPr id="755" name="TextBox 22"/>
          <p:cNvSpPr/>
          <p:nvPr/>
        </p:nvSpPr>
        <p:spPr>
          <a:xfrm>
            <a:off x="706320" y="3406680"/>
            <a:ext cx="55101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一般情况下长期持有的股票投资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Object 13" descr=""/>
          <p:cNvPicPr/>
          <p:nvPr/>
        </p:nvPicPr>
        <p:blipFill>
          <a:blip r:embed="rId5"/>
          <a:stretch/>
        </p:blipFill>
        <p:spPr>
          <a:xfrm>
            <a:off x="919080" y="4032360"/>
            <a:ext cx="659124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99"/>
          <p:cNvSpPr/>
          <p:nvPr/>
        </p:nvSpPr>
        <p:spPr>
          <a:xfrm>
            <a:off x="254160" y="853920"/>
            <a:ext cx="839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投资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1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元，购买某种股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股。根据被投资公司的股利政策，预计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的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的每股现金股利分别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计划于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将股票全部出售，预测此时股价为以每股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公司此时要求的必要报酬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6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计算该项投资的收益率并判断该投资是否可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60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"/>
          <p:cNvSpPr/>
          <p:nvPr/>
        </p:nvSpPr>
        <p:spPr>
          <a:xfrm>
            <a:off x="254160" y="353052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设该项投资的收益率为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根据题意，列如下等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"/>
          <p:cNvSpPr/>
          <p:nvPr/>
        </p:nvSpPr>
        <p:spPr>
          <a:xfrm>
            <a:off x="361800" y="3990960"/>
            <a:ext cx="8132760" cy="825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10=100×0.5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100×0.6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100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6+0.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3232080" y="3999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采用逐步测试法和内插法进行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"/>
          <p:cNvSpPr/>
          <p:nvPr/>
        </p:nvSpPr>
        <p:spPr>
          <a:xfrm>
            <a:off x="361800" y="405936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由于该股票投资收益率大于公司要求的必要报酬率，所以该股票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3" descr="SNGXY_0B$`TFWWRD60RPNZC"/>
          <p:cNvPicPr/>
          <p:nvPr/>
        </p:nvPicPr>
        <p:blipFill>
          <a:blip r:embed="rId2"/>
          <a:stretch/>
        </p:blipFill>
        <p:spPr>
          <a:xfrm>
            <a:off x="647640" y="860400"/>
            <a:ext cx="7128000" cy="2354400"/>
          </a:xfrm>
          <a:prstGeom prst="rect">
            <a:avLst/>
          </a:prstGeom>
          <a:ln w="0">
            <a:noFill/>
          </a:ln>
        </p:spPr>
      </p:pic>
      <p:pic>
        <p:nvPicPr>
          <p:cNvPr id="769" name="对象 37" descr=""/>
          <p:cNvPicPr/>
          <p:nvPr/>
        </p:nvPicPr>
        <p:blipFill>
          <a:blip r:embed="rId3"/>
          <a:stretch/>
        </p:blipFill>
        <p:spPr>
          <a:xfrm>
            <a:off x="1550880" y="3284640"/>
            <a:ext cx="5246640" cy="633240"/>
          </a:xfrm>
          <a:prstGeom prst="rect">
            <a:avLst/>
          </a:prstGeom>
          <a:ln w="0">
            <a:noFill/>
          </a:ln>
        </p:spPr>
      </p:pic>
      <p:pic>
        <p:nvPicPr>
          <p:cNvPr id="770" name="对象 37" descr=""/>
          <p:cNvPicPr/>
          <p:nvPr/>
        </p:nvPicPr>
        <p:blipFill>
          <a:blip r:embed="rId4"/>
          <a:stretch/>
        </p:blipFill>
        <p:spPr>
          <a:xfrm>
            <a:off x="3490920" y="2554200"/>
            <a:ext cx="2416320" cy="29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99"/>
          <p:cNvSpPr/>
          <p:nvPr/>
        </p:nvSpPr>
        <p:spPr>
          <a:xfrm>
            <a:off x="254160" y="853920"/>
            <a:ext cx="83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投资某公司股票的必要收益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现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的价格购买某公司发行的股利固定增长股票，预计股利年增长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今年已经发放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／股。计算该项投资的收益率并判断该投资是否可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1"/>
          <p:cNvSpPr/>
          <p:nvPr/>
        </p:nvSpPr>
        <p:spPr>
          <a:xfrm>
            <a:off x="254160" y="234324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固定股利增长股票价值模型公式，可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2"/>
          <p:cNvSpPr/>
          <p:nvPr/>
        </p:nvSpPr>
        <p:spPr>
          <a:xfrm>
            <a:off x="361800" y="368316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经测算，该股票的预期收益率高于公司要求的报酬率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对象 40" descr=""/>
          <p:cNvPicPr/>
          <p:nvPr/>
        </p:nvPicPr>
        <p:blipFill>
          <a:blip r:embed="rId2"/>
          <a:stretch/>
        </p:blipFill>
        <p:spPr>
          <a:xfrm>
            <a:off x="1285920" y="2803680"/>
            <a:ext cx="3532320" cy="69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1" descr="[5[}4VGIJ}XITR]HPZJ395F"/>
          <p:cNvPicPr/>
          <p:nvPr/>
        </p:nvPicPr>
        <p:blipFill>
          <a:blip r:embed="rId1"/>
          <a:stretch/>
        </p:blipFill>
        <p:spPr>
          <a:xfrm>
            <a:off x="466560" y="243000"/>
            <a:ext cx="2865600" cy="4302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99"/>
          <p:cNvSpPr/>
          <p:nvPr/>
        </p:nvSpPr>
        <p:spPr>
          <a:xfrm>
            <a:off x="1249200" y="116532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如果短期投资股票，投资期在一年以内，如何计算股票的收益率？如果长期持有固定收益的股票，收益率又如何计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99"/>
          <p:cNvSpPr/>
          <p:nvPr/>
        </p:nvSpPr>
        <p:spPr>
          <a:xfrm>
            <a:off x="254160" y="85392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拟购买的某公司股票每股盈利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市场价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市场上该行业平均市盈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分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购买该股票的价格是否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市盈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254160" y="214776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票目前市盈率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24÷3=8(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倍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2"/>
          <p:cNvSpPr/>
          <p:nvPr/>
        </p:nvSpPr>
        <p:spPr>
          <a:xfrm>
            <a:off x="361800" y="340848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所投资股票目前的市盈率低于行业平均市盈率，股价基本属于正常，有一定的吸引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5"/>
          <p:cNvSpPr/>
          <p:nvPr/>
        </p:nvSpPr>
        <p:spPr>
          <a:xfrm>
            <a:off x="254160" y="263700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该股票价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3×9=27(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2" descr="FA}XE4O8P9)N1I5X4[SSN7P"/>
          <p:cNvPicPr/>
          <p:nvPr/>
        </p:nvPicPr>
        <p:blipFill>
          <a:blip r:embed="rId1"/>
          <a:stretch/>
        </p:blipFill>
        <p:spPr>
          <a:xfrm>
            <a:off x="63360" y="60480"/>
            <a:ext cx="2457720" cy="59040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719280" y="9795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本项目学习，要完成如下工作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债券投资的决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投资的决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市盈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422280" y="853920"/>
            <a:ext cx="80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市盈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就是股票市价和每股盈利的比率，即表示投资人愿意用盈利的多少倍来购买这种股票，是市场对该股票的评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9"/>
          <p:cNvSpPr/>
          <p:nvPr/>
        </p:nvSpPr>
        <p:spPr>
          <a:xfrm>
            <a:off x="743040" y="232560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价格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市盈率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×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每股盈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价值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平均市盈率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×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每股盈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Object 8" descr=""/>
          <p:cNvPicPr/>
          <p:nvPr/>
        </p:nvPicPr>
        <p:blipFill>
          <a:blip r:embed="rId2"/>
          <a:stretch/>
        </p:blipFill>
        <p:spPr>
          <a:xfrm>
            <a:off x="2171880" y="1639800"/>
            <a:ext cx="2844720" cy="7254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22"/>
          <p:cNvSpPr/>
          <p:nvPr/>
        </p:nvSpPr>
        <p:spPr>
          <a:xfrm>
            <a:off x="336600" y="3178080"/>
            <a:ext cx="818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评价：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市盈率高低可能代表了投资者对等公司的信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市盈率高低会受到市场其它非正常因素的影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通常认为，市盈率在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倍～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之间比较正常，但并不绝对，各行业的正常值有区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95" name="文本框 99"/>
          <p:cNvSpPr/>
          <p:nvPr/>
        </p:nvSpPr>
        <p:spPr>
          <a:xfrm>
            <a:off x="246240" y="1050840"/>
            <a:ext cx="865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评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的内在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预测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的投资收益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计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目前的市盈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评价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股票投资项目的可行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图片 1" descr="]HILGH)Z1$5V$DEN`6WJ_R2"/>
          <p:cNvPicPr/>
          <p:nvPr/>
        </p:nvPicPr>
        <p:blipFill>
          <a:blip r:embed="rId1"/>
          <a:stretch/>
        </p:blipFill>
        <p:spPr>
          <a:xfrm>
            <a:off x="27000" y="79200"/>
            <a:ext cx="2106720" cy="41292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1" descr="5@TCXR~VM_~W757_X8V7)BN"/>
          <p:cNvPicPr/>
          <p:nvPr/>
        </p:nvPicPr>
        <p:blipFill>
          <a:blip r:embed="rId2"/>
          <a:stretch/>
        </p:blipFill>
        <p:spPr>
          <a:xfrm>
            <a:off x="619200" y="569880"/>
            <a:ext cx="765792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文本框 6"/>
          <p:cNvSpPr/>
          <p:nvPr/>
        </p:nvSpPr>
        <p:spPr>
          <a:xfrm>
            <a:off x="3370320" y="1987560"/>
            <a:ext cx="52722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讲完毕 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图片 12" descr=""/>
          <p:cNvPicPr/>
          <p:nvPr/>
        </p:nvPicPr>
        <p:blipFill>
          <a:blip r:embed="rId1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" descr="JYD9_VJ0$P1LJ[2(4CW`%UY"/>
          <p:cNvPicPr/>
          <p:nvPr/>
        </p:nvPicPr>
        <p:blipFill>
          <a:blip r:embed="rId1"/>
          <a:stretch/>
        </p:blipFill>
        <p:spPr>
          <a:xfrm>
            <a:off x="39600" y="98280"/>
            <a:ext cx="2457360" cy="6289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HG_AMF~SQNK}8]B0ZB(X0CW"/>
          <p:cNvPicPr/>
          <p:nvPr/>
        </p:nvPicPr>
        <p:blipFill>
          <a:blip r:embed="rId2"/>
          <a:stretch/>
        </p:blipFill>
        <p:spPr>
          <a:xfrm>
            <a:off x="420840" y="795240"/>
            <a:ext cx="849600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MH_Other_1"/>
          <p:cNvSpPr/>
          <p:nvPr/>
        </p:nvSpPr>
        <p:spPr>
          <a:xfrm>
            <a:off x="2184480" y="1411200"/>
            <a:ext cx="571320" cy="571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0bd65"/>
                </a:solidFill>
                <a:latin typeface="Arial"/>
                <a:ea typeface="微软雅黑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H_Other_2"/>
          <p:cNvSpPr/>
          <p:nvPr/>
        </p:nvSpPr>
        <p:spPr>
          <a:xfrm>
            <a:off x="2184480" y="2122560"/>
            <a:ext cx="57132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cacaca"/>
                </a:solidFill>
                <a:latin typeface="Arial"/>
                <a:ea typeface="微软雅黑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MH_Text_1"/>
          <p:cNvSpPr/>
          <p:nvPr/>
        </p:nvSpPr>
        <p:spPr>
          <a:xfrm>
            <a:off x="2960640" y="1488600"/>
            <a:ext cx="370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任务一 债券投资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MH_Text_2"/>
          <p:cNvSpPr/>
          <p:nvPr/>
        </p:nvSpPr>
        <p:spPr>
          <a:xfrm>
            <a:off x="2960640" y="2208600"/>
            <a:ext cx="29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任务二 股票投资决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1" descr="A7UQS4L2TGNY4TSW8B%DU8V"/>
          <p:cNvPicPr/>
          <p:nvPr/>
        </p:nvPicPr>
        <p:blipFill>
          <a:blip r:embed="rId1"/>
          <a:stretch/>
        </p:blipFill>
        <p:spPr>
          <a:xfrm>
            <a:off x="422280" y="152280"/>
            <a:ext cx="2333520" cy="65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73120" y="4222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券的概念和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62080" y="118908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证券是指具有一定票面金额，用以证明或设定权利所做成的书面信用凭证，它表明证券持有人或第三者有权取得该证券所拥有的特定权益，如财产所有权或债权。包括股票、债券、基金及其衍生工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573120" y="790560"/>
            <a:ext cx="2135160" cy="3988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证券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76280" y="2496960"/>
            <a:ext cx="24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证券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4"/>
          <p:cNvSpPr/>
          <p:nvPr/>
        </p:nvSpPr>
        <p:spPr>
          <a:xfrm>
            <a:off x="717480" y="2814480"/>
            <a:ext cx="40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）按证券体现的权益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6"/>
          <p:cNvSpPr/>
          <p:nvPr/>
        </p:nvSpPr>
        <p:spPr>
          <a:xfrm>
            <a:off x="4924440" y="2297160"/>
            <a:ext cx="22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所有权证券依托投资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权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大括号 9"/>
          <p:cNvSpPr/>
          <p:nvPr/>
        </p:nvSpPr>
        <p:spPr>
          <a:xfrm>
            <a:off x="4768920" y="2496960"/>
            <a:ext cx="155520" cy="7988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798840"/>
              <a:gd name="textAreaBottom" fmla="*/ 794880 h 79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50"/>
                </a:cubicBezTo>
                <a:lnTo>
                  <a:pt x="10800" y="10450"/>
                </a:lnTo>
                <a:cubicBezTo>
                  <a:pt x="10800" y="10625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50"/>
                </a:cubicBezTo>
                <a:lnTo>
                  <a:pt x="10800" y="21250"/>
                </a:lnTo>
                <a:cubicBezTo>
                  <a:pt x="10800" y="214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0"/>
          <p:cNvSpPr/>
          <p:nvPr/>
        </p:nvSpPr>
        <p:spPr>
          <a:xfrm>
            <a:off x="717480" y="3568680"/>
            <a:ext cx="37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收益状况是否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5"/>
          <p:cNvSpPr/>
          <p:nvPr/>
        </p:nvSpPr>
        <p:spPr>
          <a:xfrm>
            <a:off x="4559400" y="3405240"/>
            <a:ext cx="25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固定收益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变动收益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左大括号 13"/>
          <p:cNvSpPr/>
          <p:nvPr/>
        </p:nvSpPr>
        <p:spPr>
          <a:xfrm>
            <a:off x="4483080" y="3568680"/>
            <a:ext cx="76320" cy="50328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5"/>
          <p:cNvSpPr/>
          <p:nvPr/>
        </p:nvSpPr>
        <p:spPr>
          <a:xfrm>
            <a:off x="831960" y="41893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发行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左大括号 18"/>
          <p:cNvSpPr/>
          <p:nvPr/>
        </p:nvSpPr>
        <p:spPr>
          <a:xfrm>
            <a:off x="3335400" y="4189320"/>
            <a:ext cx="75960" cy="50328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5"/>
          <p:cNvSpPr/>
          <p:nvPr/>
        </p:nvSpPr>
        <p:spPr>
          <a:xfrm>
            <a:off x="3583080" y="402912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政府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金融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公司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2"/>
          <p:cNvSpPr/>
          <p:nvPr/>
        </p:nvSpPr>
        <p:spPr>
          <a:xfrm>
            <a:off x="573120" y="4222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证券投资的概念及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99"/>
          <p:cNvSpPr/>
          <p:nvPr/>
        </p:nvSpPr>
        <p:spPr>
          <a:xfrm>
            <a:off x="682560" y="774720"/>
            <a:ext cx="35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）证券投资的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1"/>
          <p:cNvSpPr/>
          <p:nvPr/>
        </p:nvSpPr>
        <p:spPr>
          <a:xfrm>
            <a:off x="820800" y="1135080"/>
            <a:ext cx="80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证券投资是企业投资的重要组成部分，它是指投资者将资金投资于股票、债券、基金及衍生证券等资产，从而获取收益的一种投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76280" y="2297160"/>
            <a:ext cx="31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）证券投资的种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6"/>
          <p:cNvSpPr/>
          <p:nvPr/>
        </p:nvSpPr>
        <p:spPr>
          <a:xfrm>
            <a:off x="717480" y="2665440"/>
            <a:ext cx="40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）按证券投资风险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7"/>
          <p:cNvSpPr/>
          <p:nvPr/>
        </p:nvSpPr>
        <p:spPr>
          <a:xfrm>
            <a:off x="4924440" y="2136600"/>
            <a:ext cx="289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无风险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低风险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高风险证券投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左大括号 19"/>
          <p:cNvSpPr/>
          <p:nvPr/>
        </p:nvSpPr>
        <p:spPr>
          <a:xfrm>
            <a:off x="4768920" y="2416320"/>
            <a:ext cx="155520" cy="79848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798480"/>
              <a:gd name="textAreaBottom" fmla="*/ 794520 h 79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50"/>
                </a:cubicBezTo>
                <a:lnTo>
                  <a:pt x="10800" y="10450"/>
                </a:lnTo>
                <a:cubicBezTo>
                  <a:pt x="10800" y="10625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50"/>
                </a:cubicBezTo>
                <a:lnTo>
                  <a:pt x="10800" y="21250"/>
                </a:lnTo>
                <a:cubicBezTo>
                  <a:pt x="10800" y="214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0"/>
          <p:cNvSpPr/>
          <p:nvPr/>
        </p:nvSpPr>
        <p:spPr>
          <a:xfrm>
            <a:off x="717480" y="3405240"/>
            <a:ext cx="37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证券持有期限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5"/>
          <p:cNvSpPr/>
          <p:nvPr/>
        </p:nvSpPr>
        <p:spPr>
          <a:xfrm>
            <a:off x="4559400" y="3198960"/>
            <a:ext cx="25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长期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短期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左大括号 23"/>
          <p:cNvSpPr/>
          <p:nvPr/>
        </p:nvSpPr>
        <p:spPr>
          <a:xfrm>
            <a:off x="4483080" y="3362400"/>
            <a:ext cx="76320" cy="50328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24"/>
          <p:cNvSpPr/>
          <p:nvPr/>
        </p:nvSpPr>
        <p:spPr>
          <a:xfrm>
            <a:off x="831960" y="41893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投资的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左大括号 25"/>
          <p:cNvSpPr/>
          <p:nvPr/>
        </p:nvSpPr>
        <p:spPr>
          <a:xfrm>
            <a:off x="3335400" y="4189320"/>
            <a:ext cx="75960" cy="50328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5"/>
          <p:cNvSpPr/>
          <p:nvPr/>
        </p:nvSpPr>
        <p:spPr>
          <a:xfrm>
            <a:off x="3583080" y="3867120"/>
            <a:ext cx="409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股票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债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基金投资和证券组合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94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"/>
          <p:cNvSpPr/>
          <p:nvPr/>
        </p:nvSpPr>
        <p:spPr>
          <a:xfrm>
            <a:off x="573120" y="422280"/>
            <a:ext cx="48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影响证券投资决策的主要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4"/>
          <p:cNvSpPr/>
          <p:nvPr/>
        </p:nvSpPr>
        <p:spPr>
          <a:xfrm>
            <a:off x="671400" y="1012680"/>
            <a:ext cx="751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国民经济形势。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国民经济形式即证券投资的宏观经济，从宏观角度考察一些经济因素对证券投资的影响。主要包括以下几个方面的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国民生产总值发展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通货膨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利率政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行业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的市场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所处的生命周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企业的财务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2:10:00Z</dcterms:created>
  <dc:creator>Administrator</dc:creator>
  <dc:description/>
  <dc:language>en-US</dc:language>
  <cp:lastModifiedBy>Administrator</cp:lastModifiedBy>
  <dcterms:modified xsi:type="dcterms:W3CDTF">2022-02-04T10:38:41Z</dcterms:modified>
  <cp:revision>1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206</vt:lpwstr>
  </property>
</Properties>
</file>